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C341-409E-4E4F-A00E-445CD52AF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9996-12BB-4F84-8BED-D84A5BE48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62EF-68F3-472F-AB0D-839F73999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3430-81E3-4F77-AADF-78959CBBB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5AE9-3845-4F11-9CBF-69CBD4289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9762-1902-430F-B925-9C96B9AE9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83F1-602E-4E09-832A-6BAC9EADB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DBA6-005E-4B67-BE3E-6E858C5CE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8AF6-EFF0-4132-9533-FCF462E07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6E4E-419E-4237-983D-D620DFF66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221A-2D00-4904-99E1-1DDBD5AF1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3DA34-CAFB-4547-A3B9-F82D1A419D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128D5-4975-4BCA-B8B8-A07221985B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0B772-832E-4854-9052-DFFB0F8C7B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9CD39-DE73-4D59-8685-3859C87E54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A5CCF-F256-4323-89A6-ECF152ED5A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ECB45-2116-46C7-9FBC-DA040268D6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7CA3A-9B8B-44AC-AF51-9E897E290F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426B5-5433-4D08-AF22-482DA60DCC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B4746-73A1-4189-82EC-DD6B103F9F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7213C-1613-4ADC-9798-2E5F25F743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0C2D7-CFCD-48B1-87B3-E341DC8D8E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E2AD8-359B-495A-B420-3F2AB917E3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58FB-A31E-434A-87EE-55D1CBD5C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6000" y="6324120"/>
            <a:ext cx="49528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D7A32-4105-48C2-A465-FB5C9D241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Eigh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chnology-Bas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ning Metho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8-1.jpg"/>
          <p:cNvPicPr/>
          <p:nvPr/>
        </p:nvPicPr>
        <p:blipFill>
          <a:blip r:embed="rId1"/>
          <a:stretch/>
        </p:blipFill>
        <p:spPr>
          <a:xfrm>
            <a:off x="2971800" y="3733920"/>
            <a:ext cx="34765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D5B0-7F9C-40FD-A04C-652237620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ooter Placeholder 5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elf-Directed Lear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Process in which individuals or groups take the initiative and responsibility for learning and manage their own learning experi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major advantage of computer-based training is that it can be initiated and controlled by the trai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8-10.jpg"/>
          <p:cNvPicPr/>
          <p:nvPr/>
        </p:nvPicPr>
        <p:blipFill>
          <a:blip r:embed="rId1"/>
          <a:stretch/>
        </p:blipFill>
        <p:spPr>
          <a:xfrm>
            <a:off x="2971800" y="3886200"/>
            <a:ext cx="3348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67C3-8AE1-4E8E-8E04-4B2790D84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5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elf-Directed Lear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flexi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at one’s own 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what is relevant to thei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e independent with less dependence on formal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according to one’s own learning 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6208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m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learn wrong things or learn incomple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te time accessing and finding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takes time to gain SDL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ED32-B377-40F3-B0AA-F82C940F1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synchronous &amp; Synchronous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uter based training can be asynchronous or synchrono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raining 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synchronous i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pre-programmed and available to the trainee at any time and from any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1120" indent="-44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online course or multimedia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raining 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ynchrono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ve and requires trainees to be at their computer at a specific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1120" indent="-44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.g., “chat” session or live “webin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8D33-54EF-47A2-993A-ED792C079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Electronic Performance Support System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EPS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is an asynchronous system that provides information, advice, and learning experience on the job to improve performanc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formation is only accessed when it i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nly needed information is given; reduces information over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ffective for high-turnover jobs or tasks that are difficult, infrequent and must be performed perf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bile technology applications increase use of EP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78F7-CBC8-4E52-B163-72C163C3B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5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Video and Web  Conferenc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410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ynchronous training using two-way television, satellite or web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94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imultaneously training at multiple loc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94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apid dissemination of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94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n site facilitator can address challenges with personal attention for train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8-14.jpg"/>
          <p:cNvPicPr/>
          <p:nvPr/>
        </p:nvPicPr>
        <p:blipFill>
          <a:blip r:embed="rId1"/>
          <a:stretch/>
        </p:blipFill>
        <p:spPr>
          <a:xfrm>
            <a:off x="5334120" y="2514600"/>
            <a:ext cx="380988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72B2-F1A7-4FB6-A58B-64A8D143F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Video and Web Conferenc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technology has created new opportunities for training over the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inars are seminars or workshops taking place over the web with option for interactive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casts are live or recorded audio or video broadcasts over the internet generally one-way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webinars and webcasts can be synchronous or asynchron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1EB0-D0BF-422A-B3CB-E3DCD9851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he Design of Computer-Based Training  Program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is just the medium for delivering training and still rely on good design to ensure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 pract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itions of pract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s well as many of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-the-job instructional metho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built into computer-bas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design factors also important and are highlighted 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0E1E-9FE8-45EA-B49E-EA4CAE748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he Design of Computer-Based Training  Program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m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rease the appeal, encourage practice, and facilitate discovery of patterns and relationships in the training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uter simul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ide trainees with hands-on training for a particular task as well as opportunities to practice and master knowledge and skills in an interactiv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le Play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 program engaging and provide opportunity to experiment an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92DD-0A53-4788-94EC-24E49BE80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he Design of Computer-Based Training  Program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ri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involve dialogue and characters liven up abstract concepts and increase 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stom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volves tailoring instructional elements to meet trainee preferences and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al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rough the use of conversational language, rather than formal language, helps trainees feel more engaged in a conversation with the progr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B440-D3DA-4E3C-8A14-41BDE03FA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he Design of Computer-Based Training  Program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man Inter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instructor and other online participants through chat rooms, discussion boards decreases feelings of isolation and increases motiv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edbac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mportant in increasing learning. Can range from simple prompts to more complex quizzes, reviews or interaction with virtual or actual coach/facilit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principles are identified in Trainer’s Notebook 8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41C9-A9A5-4BB9-A613-DA11F96F5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echnology-based training and traditional training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different methods of technology-bas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and contrast instructor-led and self-directe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and give examples of asynchronous and synchronous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A440-C6E9-4C64-8191-E0AC04400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echnology-Based Training: Advantag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for train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ll the time (just-in-time trai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learner control over content, sequence and pace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pacing allows for progress at own 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flexibility and conven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comfort with own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s learn at work or away from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travel time; greater geographical flex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7C9F-208E-4506-8EE9-608E60C9F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echnology-Based Training: Advantag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-520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Advantages for organiz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l trainees receive the same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arge numbers can be trained in a short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ditional constraints around classrooms are eli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 across the glo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ck trainees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33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seful for legal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crease efficiencies and cost sav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04FC-F503-4C08-A929-352F1880F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cc"/>
                </a:solidFill>
                <a:latin typeface="Arial"/>
              </a:rPr>
              <a:t>Technology-Based Training: Disadvantages</a:t>
            </a:r>
            <a:endParaRPr b="1" lang="en-US" sz="38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6477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7780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Arial"/>
              </a:rPr>
              <a:t>Disadvantages to traine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Less interpersonal contac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Doesn’t support all learning sty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Potential computer illiterac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0"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Arial"/>
              </a:rPr>
              <a:t>Disadvantages to organiza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Resistance to tech-based train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Cost of develop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8-22.jpg"/>
          <p:cNvPicPr/>
          <p:nvPr/>
        </p:nvPicPr>
        <p:blipFill>
          <a:blip r:embed="rId1"/>
          <a:stretch/>
        </p:blipFill>
        <p:spPr>
          <a:xfrm>
            <a:off x="6746760" y="1752480"/>
            <a:ext cx="23972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07DF-A92E-4546-A16A-1BCC205CE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How Effective is Tech-Based Training?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ide number of variables in determining effectiveness and inconclusive at thi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echnology-based training not considered superior to traditional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ffective for declarative and procedural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as effective for learning complex material, soft skills, psychomotor skills, or team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ee motivation plays a significant role in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BAB9-DCEC-4C6E-9CB6-885EA5347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Future of Technology-Bas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model of learning emerging known as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Social constructivism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which emphasizes the learner and learning through socia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98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mergence of new learning technology that facilitates social constructivism in particular Web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98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eb 2.0 is a set of internet tools that enable sharing, creation of knowledge and collabo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98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lows for communities of practice and informal learning as discussed in Ch.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0565-9C53-4E59-A01C-269B86F89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Future of Technology-Based 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opular Web 2.0 Too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Blog: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a journal style websites that contain commentary and information on a su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Wiki: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webpage or collection of web pages in which users share, contribute, and modify information on a topic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FC91-FA72-4A6D-BC2E-2591F6B3A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Future of Technology-Based 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odcast: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short audio or video recording that can be downloaded and played on a mobile device such as iPod or cell 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Mobile learning: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rainees access learning where and when they want to using an mp3, iPod, or smart phone in an “on-demand”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9530-1912-4C67-9F77-AE560C8EA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Future of Technology-Based 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use of technology for learning continues to advance; yet demise of traditional methods not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Key iss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en to use technolo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ow to blend it with traditional metho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en traditional methods are b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swer lies 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ing objec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tent of trai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sign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ee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5737-FE8F-4547-B345-9651EB1F9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based training methods were descri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serve as a complement to off-the-job and on-the-job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ctions between Instructor Led and Self Directed training, and asynchronous and synchronous training were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349E-AC16-4600-A287-90F3DFF1A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involved in the design of technology based training were discus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 and disadvantages and the relative effectiveness of the various methods were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2.0 learning tools and mobile learning and their facilitation of Social Constructivism was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6A6C-FB24-4570-99C1-5204AF09B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and discuss computer-based training, e-learning, electronic performance support systems, and video and Web confer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how to design computer-based training progra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advantages and disadvantages of computer-based train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effectiveness of computer-based train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future of technology-based training and describe Web 2.0 tools and mobil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66DD-E37A-42B3-A4FB-60EFBEBEF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5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echnology-Bas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echnology-based training is training that involves using technology to deliver courses (lear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fferent types of technology-based training have evolved as technology itself evolv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8-4.jpg"/>
          <p:cNvPicPr/>
          <p:nvPr/>
        </p:nvPicPr>
        <p:blipFill>
          <a:blip r:embed="rId1"/>
          <a:stretch/>
        </p:blipFill>
        <p:spPr>
          <a:xfrm>
            <a:off x="5603760" y="1523880"/>
            <a:ext cx="354024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0DF1-681A-4314-94D4-F2422EE14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echnology-Bas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types of technology-based train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05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-bas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ized self-study with CD-Rom, D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performance suppor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media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deo/Audio/Tele-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ellite or broadcast tele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817080" y="5749920"/>
            <a:ext cx="19760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table 8.1 in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4EFD-437E-4BE2-9ED4-87295A107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echnology-Based</a:t>
            </a:r>
            <a:br>
              <a:rPr sz="3600"/>
            </a:b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in contrast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ditional training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is training that does not involve using technology to deliver learning (regardless of the instructor or learners use of technology in the classro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6E92-AAED-4DD7-80EA-66B455BF6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"/>
              </a:rPr>
              <a:t>Prevalence of Technology-Based Training</a:t>
            </a: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technology for training has increased In Canada over the past dec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rganizations have made major advances in using technology-based training as their primary source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in Canada and the U.S. the use of learning technology represents 16% of all formal training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training technology is becoming more popular albeit at a relatively slow 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57AB-D37A-4047-892A-DB0EE88B0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mputer-Bas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Computer-based training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Training that is delivered via the computer for the purpose of teaching job-relevant knowledge and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-learn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use of computer network technology such as the intranet or Internet to deliver information or instruction to individ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-learning is a specific type of computer based trai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8BA3-A4DC-4A55-838D-8B95817CA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Instructor-L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raining methods that involve an instructor or facilitator who, in the case of technology-based training, leads, facilitates, or trains on-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degree of involvement of the instructor in ILT can vary from full control to advisory or resour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8-9.jpg"/>
          <p:cNvPicPr/>
          <p:nvPr/>
        </p:nvPicPr>
        <p:blipFill>
          <a:blip r:embed="rId1"/>
          <a:stretch/>
        </p:blipFill>
        <p:spPr>
          <a:xfrm>
            <a:off x="2895480" y="3962520"/>
            <a:ext cx="3413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27T23:27:20Z</dcterms:modified>
  <cp:revision>326</cp:revision>
  <dc:subject/>
  <dc:title>Chapter 8</dc:title>
</cp:coreProperties>
</file>